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FB58-81C3-4368-9173-AC4AECE0A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A114-4F7B-48DB-9EFF-5E184115F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461D-C5F3-48E6-A62C-7D4B533D1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61F9-09B8-42A5-BAFB-43DEFD711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39F5-9CF3-466D-BC67-ED7428FE0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C114-B23D-41FB-93DA-C614EC3EF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5D62-7F04-4C44-9BDB-9D8A2089A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C883-9822-48B7-B706-3AF28887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4E3C-6218-4A30-9343-9B1307F8B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156D-34B7-427E-875E-7DBDE891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3814-A099-40DF-AB06-CE929C3E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3D1A-B623-443C-87BD-91D3E4D5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345FA-9092-4670-9DEC-8B0F7778907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8600" y="533520"/>
            <a:ext cx="8458200" cy="160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33cc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Fighting the Virus:hiv/aids in Africa</a:t>
            </a:r>
            <a:endParaRPr b="1" i="1" lang="en-US" sz="2400" spc="1" strike="noStrike">
              <a:ln w="0">
                <a:noFill/>
              </a:ln>
              <a:solidFill>
                <a:srgbClr val="33cc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80880" y="2119320"/>
            <a:ext cx="5791320" cy="47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africa_pol01" descr=""/>
          <p:cNvPicPr/>
          <p:nvPr/>
        </p:nvPicPr>
        <p:blipFill>
          <a:blip r:embed="rId1"/>
          <a:stretch/>
        </p:blipFill>
        <p:spPr>
          <a:xfrm>
            <a:off x="2895480" y="133200"/>
            <a:ext cx="5910480" cy="6724800"/>
          </a:xfrm>
          <a:prstGeom prst="rect">
            <a:avLst/>
          </a:prstGeom>
          <a:ln w="0">
            <a:noFill/>
          </a:ln>
        </p:spPr>
      </p:pic>
      <p:pic>
        <p:nvPicPr>
          <p:cNvPr id="44" name="finallogo" descr=""/>
          <p:cNvPicPr/>
          <p:nvPr/>
        </p:nvPicPr>
        <p:blipFill>
          <a:blip r:embed="rId2"/>
          <a:stretch/>
        </p:blipFill>
        <p:spPr>
          <a:xfrm>
            <a:off x="0" y="380880"/>
            <a:ext cx="2549520" cy="1486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28600" y="1905120"/>
            <a:ext cx="2971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Leading in by telling the students how serious the situation of HIV  is in  Af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Task 1  </a:t>
            </a:r>
            <a:r>
              <a:rPr b="0" lang="en-US" sz="5400" spc="-1" strike="noStrike">
                <a:solidFill>
                  <a:srgbClr val="cc0000"/>
                </a:solidFill>
                <a:latin typeface="Comic Sans MS"/>
              </a:rPr>
              <a:t>learn to compa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ke a list of all the numbers and the related events compare the situation in Africa with that in the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09680" y="243828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0" y="3276720"/>
          <a:ext cx="9144000" cy="2862000"/>
        </p:xfrm>
        <a:graphic>
          <a:graphicData uri="http://schemas.openxmlformats.org/drawingml/2006/table">
            <a:tbl>
              <a:tblPr/>
              <a:tblGrid>
                <a:gridCol w="2316240"/>
                <a:gridCol w="6827760"/>
              </a:tblGrid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mill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million people were living with HIV or AIDS in 2002//27 million in sub-Saharan area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illio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illion were children//2 million children in Afric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304920" y="621648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We will show your diagram on the projec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743200" y="15238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tuation in the wor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743200" y="27432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tuation in sub-Saharan Afr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66880" y="380988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ildren suffer the mo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19520" y="49528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ood news and challen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43200" y="59436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can be d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1447920"/>
            <a:ext cx="220968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Times New Roman"/>
              </a:rPr>
              <a:t>Para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Times New Roman"/>
              </a:rPr>
              <a:t>Para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Times New Roman"/>
              </a:rPr>
              <a:t>Para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Times New Roman"/>
              </a:rPr>
              <a:t>Para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Times New Roman"/>
              </a:rPr>
              <a:t>Para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457200"/>
            <a:ext cx="624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Comic Sans MS"/>
              </a:rPr>
              <a:t>Task 2 paragraph id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8600" y="99072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pare at least one question for each paragraph for your partn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304920"/>
            <a:ext cx="29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Comic Sans MS"/>
              </a:rPr>
              <a:t>Task 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14400" y="52578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60" name="U686P1T1D5080913F21DT20041201100717" descr=""/>
          <p:cNvPicPr/>
          <p:nvPr/>
        </p:nvPicPr>
        <p:blipFill>
          <a:blip r:embed="rId2"/>
          <a:stretch/>
        </p:blipFill>
        <p:spPr>
          <a:xfrm>
            <a:off x="3048120" y="2666880"/>
            <a:ext cx="5143320" cy="3178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09680" y="601992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Times New Roman"/>
              </a:rPr>
              <a:t>Hu visits aids patients in the hosp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8305920" y="60199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4920" y="30492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Comic Sans MS"/>
              </a:rPr>
              <a:t>Task 4 Language lear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1523880"/>
            <a:ext cx="487692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 d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ns of thousands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these numbers were to grow, the future of Africa might be in dan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lastslide"/>
          </p:cNvPr>
          <p:cNvSpPr/>
          <p:nvPr/>
        </p:nvSpPr>
        <p:spPr>
          <a:xfrm>
            <a:off x="7620120" y="6019920"/>
            <a:ext cx="1066680" cy="838080"/>
          </a:xfrm>
          <a:custGeom>
            <a:avLst/>
            <a:gdLst>
              <a:gd name="textAreaLeft" fmla="*/ 54000 w 1066680"/>
              <a:gd name="textAreaRight" fmla="*/ 1012680 w 10666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89" h="21600">
                <a:moveTo>
                  <a:pt x="0" y="0"/>
                </a:moveTo>
                <a:lnTo>
                  <a:pt x="27489" y="0"/>
                </a:lnTo>
                <a:lnTo>
                  <a:pt x="27489" y="21600"/>
                </a:lnTo>
                <a:lnTo>
                  <a:pt x="0" y="21600"/>
                </a:lnTo>
                <a:close/>
              </a:path>
              <a:path fill="lightenLess" w="27489" h="21600">
                <a:moveTo>
                  <a:pt x="0" y="0"/>
                </a:moveTo>
                <a:lnTo>
                  <a:pt x="27489" y="0"/>
                </a:lnTo>
                <a:lnTo>
                  <a:pt x="26089" y="1400"/>
                </a:lnTo>
                <a:lnTo>
                  <a:pt x="1400" y="1400"/>
                </a:lnTo>
                <a:close/>
              </a:path>
              <a:path fill="darken" w="27489" h="21600">
                <a:moveTo>
                  <a:pt x="27489" y="0"/>
                </a:moveTo>
                <a:lnTo>
                  <a:pt x="27489" y="21600"/>
                </a:lnTo>
                <a:lnTo>
                  <a:pt x="26089" y="20200"/>
                </a:lnTo>
                <a:lnTo>
                  <a:pt x="26089" y="1400"/>
                </a:lnTo>
                <a:close/>
              </a:path>
              <a:path fill="darkenLess" w="27489" h="21600">
                <a:moveTo>
                  <a:pt x="274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9" y="20200"/>
                </a:lnTo>
                <a:close/>
              </a:path>
              <a:path fill="lighten" w="274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9" h="21600">
                <a:moveTo>
                  <a:pt x="17244" y="10800"/>
                </a:moveTo>
                <a:lnTo>
                  <a:pt x="6738" y="17806"/>
                </a:lnTo>
                <a:lnTo>
                  <a:pt x="6738" y="3794"/>
                </a:lnTo>
                <a:close/>
              </a:path>
              <a:path fill="darken" w="27489" h="21600">
                <a:moveTo>
                  <a:pt x="19089" y="3794"/>
                </a:moveTo>
                <a:lnTo>
                  <a:pt x="19089" y="17806"/>
                </a:lnTo>
                <a:lnTo>
                  <a:pt x="20751" y="17806"/>
                </a:lnTo>
                <a:lnTo>
                  <a:pt x="20751" y="379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" action="ppaction://hlinkshowjump?jump=previousslide"/>
          </p:cNvPr>
          <p:cNvSpPr/>
          <p:nvPr/>
        </p:nvSpPr>
        <p:spPr>
          <a:xfrm>
            <a:off x="6019920" y="60199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9263" y="10800"/>
                </a:moveTo>
                <a:lnTo>
                  <a:pt x="19768" y="3794"/>
                </a:lnTo>
                <a:lnTo>
                  <a:pt x="19768" y="17806"/>
                </a:lnTo>
                <a:close/>
              </a:path>
              <a:path fill="darken" w="25523" h="21600">
                <a:moveTo>
                  <a:pt x="5755" y="3794"/>
                </a:moveTo>
                <a:lnTo>
                  <a:pt x="7417" y="3794"/>
                </a:lnTo>
                <a:lnTo>
                  <a:pt x="7417" y="17806"/>
                </a:lnTo>
                <a:lnTo>
                  <a:pt x="575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7543800" cy="61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. Care 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5. Keep the disease a secr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6. The good news is that it is still not too late to protect… against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7. The fight against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8.victims of the dise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9. It seams unlikely that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0. Hope for/in the hope of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" action="ppaction://hlinkshowjump?jump=previousslide"/>
          </p:cNvPr>
          <p:cNvSpPr/>
          <p:nvPr/>
        </p:nvSpPr>
        <p:spPr>
          <a:xfrm>
            <a:off x="7848720" y="6172200"/>
            <a:ext cx="990360" cy="685800"/>
          </a:xfrm>
          <a:custGeom>
            <a:avLst/>
            <a:gdLst>
              <a:gd name="textAreaLeft" fmla="*/ 44280 w 990360"/>
              <a:gd name="textAreaRight" fmla="*/ 946080 w 990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87" h="21600">
                <a:moveTo>
                  <a:pt x="0" y="0"/>
                </a:moveTo>
                <a:lnTo>
                  <a:pt x="31187" y="0"/>
                </a:lnTo>
                <a:lnTo>
                  <a:pt x="31187" y="21600"/>
                </a:lnTo>
                <a:lnTo>
                  <a:pt x="0" y="21600"/>
                </a:lnTo>
                <a:close/>
              </a:path>
              <a:path fill="lightenLess" w="31187" h="21600">
                <a:moveTo>
                  <a:pt x="0" y="0"/>
                </a:moveTo>
                <a:lnTo>
                  <a:pt x="31187" y="0"/>
                </a:lnTo>
                <a:lnTo>
                  <a:pt x="29787" y="1400"/>
                </a:lnTo>
                <a:lnTo>
                  <a:pt x="1400" y="1400"/>
                </a:lnTo>
                <a:close/>
              </a:path>
              <a:path fill="darken" w="31187" h="21600">
                <a:moveTo>
                  <a:pt x="31187" y="0"/>
                </a:moveTo>
                <a:lnTo>
                  <a:pt x="31187" y="21600"/>
                </a:lnTo>
                <a:lnTo>
                  <a:pt x="29787" y="20200"/>
                </a:lnTo>
                <a:lnTo>
                  <a:pt x="29787" y="1400"/>
                </a:lnTo>
                <a:close/>
              </a:path>
              <a:path fill="darkenLess" w="31187" h="21600">
                <a:moveTo>
                  <a:pt x="31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7" y="20200"/>
                </a:lnTo>
                <a:close/>
              </a:path>
              <a:path fill="lighten" w="31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7" h="21600">
                <a:moveTo>
                  <a:pt x="12095" y="10800"/>
                </a:moveTo>
                <a:lnTo>
                  <a:pt x="22600" y="3794"/>
                </a:lnTo>
                <a:lnTo>
                  <a:pt x="22600" y="17806"/>
                </a:lnTo>
                <a:close/>
              </a:path>
              <a:path fill="darken" w="31187" h="21600">
                <a:moveTo>
                  <a:pt x="8587" y="3794"/>
                </a:moveTo>
                <a:lnTo>
                  <a:pt x="10250" y="3794"/>
                </a:lnTo>
                <a:lnTo>
                  <a:pt x="10250" y="17806"/>
                </a:lnTo>
                <a:lnTo>
                  <a:pt x="858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1T07:06:54Z</dcterms:created>
  <dc:creator>郭学宝</dc:creator>
  <dc:description/>
  <dc:language>en-US</dc:language>
  <cp:lastModifiedBy>郭学宝</cp:lastModifiedBy>
  <dcterms:modified xsi:type="dcterms:W3CDTF">2004-12-02T02:07:15Z</dcterms:modified>
  <cp:revision>16</cp:revision>
  <dc:subject/>
  <dc:title>PowerPoint 演示文稿</dc:title>
</cp:coreProperties>
</file>